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5C4-D800-4AF4-826C-6A0CE372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F22-72F2-45B3-ADD5-DD868EB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A32-2A09-48A3-A795-E12655CE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6B7-C5D7-414F-942A-C58D1E56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8FF-08D5-488A-A8EF-5BA20160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28A-AE9F-4004-9E2B-7078F186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EF4-DB4F-4D48-88B3-17BB801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31D-FF40-41FC-9A61-0A7B070C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DF8-E122-459D-BABA-8E20859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791-CA3A-4EA5-8C82-33DA8F4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7FA-0000-4CA7-BFEA-2F998488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AC0-BAF3-41FB-A416-391D3471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57D-3D2C-438C-BD67-435EAA0E3B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Picture 6" descr="Gandalf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Picture 6" descr="Piramides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ramides 02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" name="Picture 6" descr="Pythagoras_Campanas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itagoras monocordio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Selknam chico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ioses Hindues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or qué es importante esto?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que juega un rol primordial en las religiones, queda sujeta también a qué tipo de religión o creencia o filosofía está imperan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Picture 6" descr="dioses Hindues"/>
          <p:cNvPicPr/>
          <p:nvPr/>
        </p:nvPicPr>
        <p:blipFill>
          <a:blip r:embed="rId1"/>
          <a:stretch/>
        </p:blipFill>
        <p:spPr>
          <a:xfrm>
            <a:off x="5572080" y="20001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6" descr="Columnas griegas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recia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grecia de noch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Picture 8" descr="Pythagoras_6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29:48Z</dcterms:modified>
  <cp:revision>28</cp:revision>
  <dc:subject/>
  <dc:title>Taller de Ciencias en la Música </dc:title>
</cp:coreProperties>
</file>